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6412-35FF-4A29-9F93-701C00E7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8F96-5CBD-4F51-B29B-2CFB0CBF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8383-F916-4F80-8F93-CEDA5725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31C9-CF80-4034-A8A6-67A3878F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E813-26E8-467A-813D-327AC744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7668-C50E-4DCE-AFAD-2686334D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0FE2-208C-4EB3-81C3-2EBA2603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FD83-D736-46F0-B1B8-EEF12584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48DC-5E9A-4A16-9209-C98EDB23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39D8-9E26-4CC1-B39D-6E9842C9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8DCC-97F9-4769-A427-923A157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B4F2-14B4-43E7-9AB2-302087D4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4B4B-38F9-4921-9970-53162E60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DDCB-3148-46DF-A44D-D6FA9891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C412-2EF1-46EE-90A5-339348BC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25A5-1360-497F-A91E-76010F17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CB5F-16F5-4B3D-8C97-06E79348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0173-0FF5-4916-8699-EEB687C5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3DEA-8EA0-4904-8EE2-9F645D4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BE0C-4E4D-4289-B349-A8903C53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E5E5-5FD5-406B-8575-8E868C6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62ED6-3D2E-4DC0-81ED-AB0C282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3209-0F0C-4A7C-9306-AB7CBD15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7E34-DFCA-4FCD-96B7-9870BBB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99A4-059D-4571-AE2C-BA5CCFF3AD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08D2-94DF-461C-AAD4-E618433780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istoryforkids.org/learn/medieval/religion/" TargetMode="External"/><Relationship Id="rId4" Type="http://schemas.openxmlformats.org/officeDocument/2006/relationships/hyperlink" Target="http://www.historyforkids.org/learn/medieval/religion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ake A Close Look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ring and contrasting medieval and Renaissance 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donna and Ch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4876920"/>
            <a:ext cx="396216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"The Madonna of Seggiolo," by Raphael.. IRC. 2005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Discovery Education. 17 May 2009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http://streaming.discoveryeducation.com/&gt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Cimabue"/>
          <p:cNvPicPr/>
          <p:nvPr/>
        </p:nvPicPr>
        <p:blipFill>
          <a:blip r:embed="rId2"/>
          <a:stretch/>
        </p:blipFill>
        <p:spPr>
          <a:xfrm>
            <a:off x="457200" y="1371600"/>
            <a:ext cx="2390760" cy="41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5486400"/>
            <a:ext cx="3810240" cy="4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Madonnna and Child,” by Cimabue. 17 May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historyforkids.org</a:t>
            </a:r>
            <a:r>
              <a:rPr b="0" lang="en-US" sz="1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/learn/medieval/religion/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More Paint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5029200"/>
            <a:ext cx="2743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"St. Peter and two saints," a French fresco.. IRC. 2005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Discovery Education. 17 May 200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http://streaming.discoveryeducation.com/&gt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51055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"The Stoning of St. Stephen" by Georgio Vasari.. IRC. 2005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Discovery Education. 17 May 2009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http://streaming.discoveryeducation.com/&gt;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06:00Z</dcterms:created>
  <dc:creator>Roseann Bayer</dc:creator>
  <dc:description/>
  <dc:language>en-US</dc:language>
  <cp:lastModifiedBy>Roseann Bayer</cp:lastModifiedBy>
  <dcterms:modified xsi:type="dcterms:W3CDTF">2009-05-18T02:23:23Z</dcterms:modified>
  <cp:revision>7</cp:revision>
  <dc:subject/>
  <dc:title>Slide 1</dc:title>
</cp:coreProperties>
</file>